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B05-F756-4CA7-AE7F-84C5023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C83-7342-4FB6-BAF3-B05BC24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CB2-5CEE-4A06-8296-56AF5272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CAD-50A5-419E-A3D1-A264A295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0FE-3FC7-4B4A-B974-C9293FA3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77A-9270-4156-B4F6-1D5D011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132-68DE-4F53-810A-94867BA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D3C-52DE-4C6A-BA1A-C1FFDBC5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E9B-69BE-43E8-9594-3F0284FD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B85-8202-48D0-9ED3-CFDF255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115-48CD-479F-BA5C-08548D7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304-E784-4EA9-8FC8-30BC5EF0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C3E-8A55-4E39-9CF1-EB687BA4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3141720"/>
            <a:ext cx="8642160" cy="37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Parchment"/>
              </a:rPr>
              <a:t>Dinosaurs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Parchment"/>
              <a:ea typeface="Parchment"/>
            </a:endParaRPr>
          </a:p>
        </p:txBody>
      </p:sp>
      <p:pic>
        <p:nvPicPr>
          <p:cNvPr id="42" name="Picture 9" descr="ANd9GcSLDWIFYwYjgk2c9gzKmUshgZQqclXbhsetYaWdhmVx54XuEt8&amp;t=1&amp;usg=__Go1xaucOw3tRCH2fkXJo09exTIM=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8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Tcentralimg"/>
          <p:cNvPicPr/>
          <p:nvPr/>
        </p:nvPicPr>
        <p:blipFill>
          <a:blip r:embed="rId4"/>
          <a:stretch/>
        </p:blipFill>
        <p:spPr>
          <a:xfrm>
            <a:off x="324000" y="0"/>
            <a:ext cx="252072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t’s a Souropod / plant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t’s a Supersau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d you know a Supersaurus is just bigger  than an Apatosau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0" y="0"/>
            <a:ext cx="842472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rchment"/>
              </a:rPr>
              <a:t>What was the biggest dinosaur?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rchment"/>
              <a:ea typeface="Parchment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46080"/>
            <a:ext cx="1914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155520" y="46080"/>
            <a:ext cx="1914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/>
          <p:cNvSpPr/>
          <p:nvPr/>
        </p:nvSpPr>
        <p:spPr>
          <a:xfrm>
            <a:off x="155520" y="46080"/>
            <a:ext cx="1914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argentinosaurus"/>
          <p:cNvPicPr/>
          <p:nvPr/>
        </p:nvPicPr>
        <p:blipFill>
          <a:blip r:embed="rId1"/>
          <a:stretch/>
        </p:blipFill>
        <p:spPr>
          <a:xfrm>
            <a:off x="395280" y="4005360"/>
            <a:ext cx="835344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do they know the difference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between a plant and meat eater’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eaters have short arms and sharp teeth for ripping and chewing m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nt eaters have long necks for reaching leaves high on trees, and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t walks on 4 legs and can jump up 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Arial"/>
              </a:rPr>
              <a:t>How were dino’s extinc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Dinosaurs were extinct because a comet came and sent shock waves and molton rocks and you can only find fossils of dinosau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AND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1= An N.I.E news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# 2= A book called discovering dinosaurs made in 2002 by compass point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# 3=Internet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youtube.com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, walking with dinosa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6"/>
          <p:cNvSpPr/>
          <p:nvPr/>
        </p:nvSpPr>
        <p:spPr>
          <a:xfrm>
            <a:off x="155520" y="46080"/>
            <a:ext cx="15908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THANKS FOR WATC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1"/>
          <p:cNvSpPr/>
          <p:nvPr/>
        </p:nvSpPr>
        <p:spPr>
          <a:xfrm>
            <a:off x="611280" y="5027760"/>
            <a:ext cx="37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EACE OUT PEO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4500720" y="486900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 DA MAN(DEVON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2:19:49Z</dcterms:created>
  <dc:creator>c4</dc:creator>
  <dc:description/>
  <dc:language>en-US</dc:language>
  <cp:lastModifiedBy>Ministry of Education</cp:lastModifiedBy>
  <dcterms:modified xsi:type="dcterms:W3CDTF">2010-10-27T01:23:52Z</dcterms:modified>
  <cp:revision>13</cp:revision>
  <dc:subject/>
  <dc:title>Slide 1</dc:title>
</cp:coreProperties>
</file>